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CE3-79B0-46AD-95D9-16DA0F39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031D-595F-4636-A21E-6428122C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66E2-65D9-4616-A6F9-C930F687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81F-4641-4E56-BC21-02E19C94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7D84-DC5D-4937-B3DA-59CF9186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996-A131-4FD1-B6E8-95A80549E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0F0B-EE5B-46D4-A2F0-F4AFF52EE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A91E-C407-4592-A022-5201554D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4BD9-A6D7-43E3-B725-F2DB1999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127-C1F0-41B0-82B5-9050F87A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CCC-2BE7-434E-AB99-E231D6DD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4AB-1C7B-4C0F-9AC0-057D4E51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E9E2-4EDD-46E9-8A76-9E8E89E0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E11-83E3-4FF9-BBA4-E8601E06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1B1-D317-4044-85E2-ACF6FE1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05E-11AF-435B-935F-344E97B9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B83-7E08-475E-96E1-AD84670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A00-4E34-49B2-B543-B238D4DF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9C8-3BFB-40B8-AF1A-7D69D7CC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910-1F9C-4347-A88C-35681A33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C77-62DE-4D12-9B16-175FE400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08F-8098-499D-8051-22284800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01F-650A-4951-BB38-5EFF91F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C43-24BF-43E5-999D-6038B4D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5D3-D265-4122-A358-CB78C4F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B0D-C64A-4932-B698-02654774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ther REALLY Bad things that were happ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8 Democratic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stors rioted = demanded future president withdraw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bby Kennedy is assassin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ntagon Papers are Published (197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,000 page doc = details that prove America is lying to us about the war and other th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 America Protest! (1962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93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0222019"/>
          <p:cNvPicPr/>
          <p:nvPr/>
        </p:nvPicPr>
        <p:blipFill>
          <a:blip r:embed="rId2"/>
          <a:stretch/>
        </p:blipFill>
        <p:spPr>
          <a:xfrm>
            <a:off x="7620120" y="5638680"/>
            <a:ext cx="814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43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Vietnam War</a:t>
            </a:r>
            <a:br>
              <a:rPr sz="44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Final Days of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68-197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162560" cy="35812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war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essons learned from Vietn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vert"/>
          <p:cNvPicPr/>
          <p:nvPr/>
        </p:nvPicPr>
        <p:blipFill>
          <a:blip r:embed="rId2"/>
          <a:srcRect l="0" t="0" r="4913" b="-1071"/>
          <a:stretch/>
        </p:blipFill>
        <p:spPr>
          <a:xfrm>
            <a:off x="3581280" y="190512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2395-2-photo"/>
          <p:cNvPicPr/>
          <p:nvPr/>
        </p:nvPicPr>
        <p:blipFill>
          <a:blip r:embed="rId3"/>
          <a:srcRect l="0" t="0" r="0" b="11280"/>
          <a:stretch/>
        </p:blipFill>
        <p:spPr>
          <a:xfrm>
            <a:off x="6726240" y="4114800"/>
            <a:ext cx="205092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www.americaslibrary.gov/assets/aa/king/aa_king_selma_2_e.jpg"/>
          <p:cNvPicPr/>
          <p:nvPr/>
        </p:nvPicPr>
        <p:blipFill>
          <a:blip r:embed="rId4"/>
          <a:srcRect l="0" t="0" r="0" b="16449"/>
          <a:stretch/>
        </p:blipFill>
        <p:spPr>
          <a:xfrm>
            <a:off x="5257800" y="609480"/>
            <a:ext cx="180648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09480" y="0"/>
            <a:ext cx="7848720" cy="563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 U.S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R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rcRect l="12909" t="0" r="9677" b="0"/>
          <a:stretch/>
        </p:blipFill>
        <p:spPr>
          <a:xfrm>
            <a:off x="228600" y="4572000"/>
            <a:ext cx="1666800" cy="2014560"/>
          </a:xfrm>
          <a:prstGeom prst="rect">
            <a:avLst/>
          </a:prstGeom>
          <a:ln w="0">
            <a:noFill/>
          </a:ln>
        </p:spPr>
      </p:pic>
      <p:sp>
        <p:nvSpPr>
          <p:cNvPr id="58" name="Line 8"/>
          <p:cNvSpPr/>
          <p:nvPr/>
        </p:nvSpPr>
        <p:spPr>
          <a:xfrm flipV="1">
            <a:off x="457200" y="2133720"/>
            <a:ext cx="6248520" cy="4495680"/>
          </a:xfrm>
          <a:prstGeom prst="line">
            <a:avLst/>
          </a:prstGeom>
          <a:ln w="82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7315200" y="2133720"/>
            <a:ext cx="762120" cy="1904760"/>
          </a:xfrm>
          <a:prstGeom prst="line">
            <a:avLst/>
          </a:prstGeom>
          <a:ln w="95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7238880" y="1066680"/>
            <a:ext cx="10670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5181480" y="2438280"/>
            <a:ext cx="10670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8077320" y="5791320"/>
            <a:ext cx="106668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8 = Nixon wins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 Promise was to withdraw troops from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4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Days of War (1968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57200" y="4114800"/>
            <a:ext cx="822960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y 1968, the nation is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eople who wanted the US to withdraw from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w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eople who wanted the US to stay and f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80880" y="1066680"/>
            <a:ext cx="838224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What is the Gov saying:</a:t>
            </a:r>
            <a:r>
              <a:rPr b="1" lang="en-US" sz="2800" spc="-1" strike="noStrike">
                <a:solidFill>
                  <a:srgbClr val="000000"/>
                </a:solidFill>
                <a:latin typeface="Boopee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Westmoreland claims Vietcong is weakening</a:t>
            </a:r>
            <a:r>
              <a:rPr b="1" lang="en-US" sz="2800" spc="-1" strike="noStrike">
                <a:solidFill>
                  <a:srgbClr val="000000"/>
                </a:solidFill>
                <a:latin typeface="Boope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, in Real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6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North Vietnamese &amp; Vietcong launc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jor attack on South Vietnam called th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t Offensive (Jan. 30, 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ear’s Eve, N.V Vietcong invades 30 S.V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cong lost, but looked really bad for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4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Days of War (1968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222019"/>
          <p:cNvPicPr/>
          <p:nvPr/>
        </p:nvPicPr>
        <p:blipFill>
          <a:blip r:embed="rId1"/>
          <a:stretch/>
        </p:blipFill>
        <p:spPr>
          <a:xfrm>
            <a:off x="7620120" y="5638680"/>
            <a:ext cx="814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305560" cy="5486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8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ry Kissi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National Security Advisor for Nix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xon &amp; Kissi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etna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lan to gradually withdraw America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 yrs = 500,000 troops to about 25,000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72 E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Kissinger announces “Peace is at Hand” = people agre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lect Nix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4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Days of War (1968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0222019"/>
          <p:cNvPicPr/>
          <p:nvPr/>
        </p:nvPicPr>
        <p:blipFill>
          <a:blip r:embed="rId1"/>
          <a:stretch/>
        </p:blipFill>
        <p:spPr>
          <a:xfrm>
            <a:off x="7620120" y="5638680"/>
            <a:ext cx="814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1066680"/>
            <a:ext cx="83818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197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= Cease-Fire signed by both s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USA starts to withdraw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But…in the e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ril 30, 1974 = The Fall of Sai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rth Vietnam invades and take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on Frequent W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UN tires to rescue S.V civilians so N.V won’t kill them for being tra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oday Vietnam is reunited and… Commun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4:  The Final Days of War (1968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0" y="0"/>
            <a:ext cx="4341960" cy="6858000"/>
            <a:chOff x="0" y="0"/>
            <a:chExt cx="4341960" cy="685800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341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Oval 6"/>
            <p:cNvSpPr/>
            <p:nvPr/>
          </p:nvSpPr>
          <p:spPr>
            <a:xfrm>
              <a:off x="2514600" y="5562360"/>
              <a:ext cx="129528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5638680" cy="42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of Vietn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14800" cy="556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56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tnam Memorial in 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91160" cy="55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08:18Z</dcterms:created>
  <dc:creator>IT Department</dc:creator>
  <dc:description/>
  <dc:language>en-US</dc:language>
  <cp:lastModifiedBy>Administrator</cp:lastModifiedBy>
  <dcterms:modified xsi:type="dcterms:W3CDTF">2013-04-10T17:01:10Z</dcterms:modified>
  <cp:revision>12</cp:revision>
  <dc:subject/>
  <dc:title>The Vietnam War Part 4: The Final Days of War (1968-1975)</dc:title>
</cp:coreProperties>
</file>